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010-FD86-4E93-BF04-24297B3C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598-0A5D-497A-A1F0-7C9967D2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11C-5D37-413D-8985-76FFB963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477-8355-4469-B752-B11BEB4A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2E0-C9D8-48C5-B56F-29B0EEB0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FAE-2525-4141-AC2B-A68B0DEB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027-1A50-4956-9574-AC017D17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92B-3D87-41D9-B619-F4CFEEBF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714-71E4-4504-8E5D-A79CAA82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22C-3FDF-4FF9-B764-CE0C9CC0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159-38D4-4EF1-BD7E-16C737D4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050-47C0-4B58-B962-39A7B454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D5D4-E5B7-472A-8446-0BE525537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Homework!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personal st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support or oppose the death penal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hort response to the above question in 300 words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is before you watch the fil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ring the vie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watch the film, keep the following questions at the back of your m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Matthew Poncelet deserve to d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the film changed your view about capital punish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readed Ess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econd writing assignment for this term is a 500-800 word essay on the question of whether the death penalty should be abolished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have to use the film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ad Man Walk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s a reference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of course be required to supplement every argument with facts, statistics, close analysis of the film, case studie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uch Dreaded D-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for submission is Wed, wk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essay must be written in the 5-paragraph format and be double-spa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draf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peer review on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5:06:29Z</dcterms:created>
  <dc:creator>lina</dc:creator>
  <dc:description/>
  <dc:language>en-US</dc:language>
  <cp:lastModifiedBy>lina</cp:lastModifiedBy>
  <dcterms:modified xsi:type="dcterms:W3CDTF">2009-02-24T06:20:44Z</dcterms:modified>
  <cp:revision>3</cp:revision>
  <dc:subject/>
  <dc:title>Homework!</dc:title>
</cp:coreProperties>
</file>